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THRA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B2FCE92-D88D-4126-AF2A-2812D250EE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C914FA6-1C90-4C63-8791-0979565B39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C8F744D-382A-470B-8722-AEF27E5C16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9D46B14-52D5-41BD-ADB4-6C338480C1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6725FE9-9772-4EB2-9363-926379DCF6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3BDBE7D-FF7E-4F11-8210-CA63BAFB9D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FC7F962-9736-4F3E-B1A0-85102B1225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CA18195-A133-4312-A6DC-6BA2482FB1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0E42F58-833D-40FF-8435-778A7A9681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BD83C88-E6D2-4991-8F37-A0FB7B3CB2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A5A6FAA-A45B-443F-A7F5-3C8B4C29E1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0D50E66-7F98-46F6-8523-F0DBB4A180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3826BC2-DB32-438A-9151-684EF9599B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2CF13AB-9C49-4B2A-ADD1-2A77F9E683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E07FE35-6D6F-4369-A8DA-389C8BC7C9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A0CB4C8-399E-419C-A2EC-BE60FF348A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CB1B577-ACCD-4D38-B75E-A6DEB71D31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75139B7-0A1D-46E7-BE9F-8DF51F004E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4964345-72BB-485E-B723-479F7F1DD5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4CDF4D7-D86C-4CCC-A600-305710BDDF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DF15120-D135-43CC-95FA-C892D95D10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gs 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7A80C44-7A16-481D-8F3F-BBE3070EB8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C8CA9FF-68D7-4DD7-8E57-369F411291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genome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F7FF4FD-D676-4463-BD1C-EB7210B757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C533209-C6F8-4F4C-9BF6-D418753C5F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pens up exciting opportunities for disease prevention and cure, but what dangers might it bring forward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1FBAEEC-B490-4005-96A3-D1251DC6A7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7A4CD68-BA7D-49DB-AE1E-CA71C5FFD4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430655F-382E-41E8-ADE4-123ADB3006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A669C77-B540-4F4B-9621-E796D3960B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EB7F488-7EB6-4969-A758-ADAA78BAF2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4690-41AF-490C-8335-C86629BBC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9696-699E-4927-B493-1F75932C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20AB-B172-4DE7-903C-220053B78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FF46-7BB3-4FCD-B491-0CB3907AD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2B3F-9D71-415D-9DFF-CC48A4D3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D8E4-5F17-41DB-A9BB-2587EE7E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ABE0-5182-4FEF-ADC4-17A590A8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9C21-C38C-405D-84B4-AF3A6908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41F9-B434-4DD0-A8A3-B4F50AFA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AF5A-63C4-49E2-BCB9-E66DA789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6146-9568-4EBA-8A8A-CE7208E9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BD67-CA92-48FD-A104-97015DD3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366C-14ED-404D-9EEA-B2D6BC2149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THRA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THRA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THRA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THRA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THRA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THRA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THRA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THRA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THRA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THRA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THRA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THRA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THRA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THRA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THRA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1187280" y="4160880"/>
            <a:ext cx="69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ame the king who fought a Civil War with the baron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067400" y="543240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Jam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5335200" y="543240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Elv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144080" y="614196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Hens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335560" y="614196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Joh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Picture 8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55" name="Oval 9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1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RA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3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6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9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122" name="Oval 4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1,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838080" y="421164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How did John raise money which upset the baron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068480" y="5432400"/>
            <a:ext cx="132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Sold la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5335200" y="617220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Held bing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066680" y="60958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Sold tit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5365800" y="540864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Raised taxes</a:t>
            </a: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838080" y="421164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en John refused to change, the barons captured which cit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067400" y="538488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Liverpo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5334840" y="538488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Sheffiel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1067760" y="612468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Lond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5365440" y="60930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Cardif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4" name="Picture 8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135" name="Oval 9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2,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RA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7000"/>
                            </p:stCondLst>
                            <p:childTnLst>
                              <p:par>
                                <p:cTn id="17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138" name="Oval 4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2,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838080" y="421164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en John refused to change, the barons captured which cit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1067400" y="538488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Liverpo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5334840" y="538488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Sheffiel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5335560" y="61246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Cardif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1067760" y="612468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Lond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146" name="Oval 4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4,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838080" y="421164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at did barons force John to sign which described the rights of freemen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069200" y="53848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Magna Car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5338080" y="5384880"/>
            <a:ext cx="26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Bayeux Tapest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067400" y="61246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Hospital b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5436720" y="6165720"/>
            <a:ext cx="270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Book of shadow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RA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3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1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3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7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3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3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3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154" name="Oval 4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4,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838080" y="421164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at did barons force John to sign which described the rights of freemen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069200" y="53848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Magna Car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5338080" y="5384880"/>
            <a:ext cx="26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Bayeux Tapest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1067400" y="61246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Hospital b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5335200" y="6124680"/>
            <a:ext cx="270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Book of shadow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3"/>
          <p:cNvSpPr/>
          <p:nvPr/>
        </p:nvSpPr>
        <p:spPr>
          <a:xfrm>
            <a:off x="539640" y="4255920"/>
            <a:ext cx="79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 time who has come to rule the countr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4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163" name="Oval 5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8,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1068120" y="538308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Parlia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5336640" y="538488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Chur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1068480" y="612468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King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5337000" y="612468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Posh and Bec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RA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170" name="Oval 4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8,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39640" y="4255920"/>
            <a:ext cx="79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 time who has come to rule the countr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1068120" y="538488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Parlia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5295240" y="537372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Chur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1068480" y="612468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King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5337000" y="612468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Posh and Bec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178" name="Oval 4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16,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539640" y="4255920"/>
            <a:ext cx="798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One of the terms of the Magna Carta stated tha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John was not to interfere with …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069920" y="53830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Peasa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5335200" y="53848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Irel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068480" y="61246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Newpo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5336640" y="612468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Church mat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RA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186" name="Oval 4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16,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539640" y="4255920"/>
            <a:ext cx="798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of the terms of the Magna Carta stated tha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ohn was not to interfere with …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1069920" y="53830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Peasa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5335200" y="53848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Irel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1068480" y="61246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Newpo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5336640" y="612468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hurch mat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"/>
          <p:cNvSpPr/>
          <p:nvPr/>
        </p:nvSpPr>
        <p:spPr>
          <a:xfrm>
            <a:off x="990720" y="421164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o is John supposed to have murder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1144080" y="54100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Mr. Bur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5335200" y="53848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His neph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1144080" y="609588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Robin H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5411880" y="609588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His Fath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8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199" name="Oval 9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32,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RA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3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4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3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3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6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3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58" name="Oval 4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1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187280" y="4149720"/>
            <a:ext cx="68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ame the king who fought a Civil War with the baron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1068480" y="53848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James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5293800" y="544500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Elv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5335560" y="614196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Joh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1144080" y="614196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Hens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202" name="Oval 4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32,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990720" y="421164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o is John supposed to have murdered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1144080" y="54100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Mr. Bur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5335200" y="53848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His neph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144080" y="609588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Robin H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5411880" y="60958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His fath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3"/>
          <p:cNvSpPr/>
          <p:nvPr/>
        </p:nvSpPr>
        <p:spPr>
          <a:xfrm>
            <a:off x="838080" y="421164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o would make sure John would keep his promises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044360" y="544500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Robin Hoo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1042920" y="616572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25 Widow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5364720" y="6165720"/>
            <a:ext cx="18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Vicky Polla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Picture 7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214" name="Oval 8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64,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5326200" y="54450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25 Bar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RA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3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1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3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7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3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3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3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218" name="Oval 4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64,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838080" y="421164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o would make sure John would keep his promises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1044360" y="544500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Robin Hoo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1042560" y="616572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25 Widow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364720" y="6165720"/>
            <a:ext cx="18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Vicky Polla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5326200" y="54450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25 Bar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"/>
          <p:cNvSpPr/>
          <p:nvPr/>
        </p:nvSpPr>
        <p:spPr>
          <a:xfrm>
            <a:off x="826920" y="4292640"/>
            <a:ext cx="7467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ffffff"/>
                </a:solidFill>
                <a:latin typeface="Arial"/>
              </a:rPr>
              <a:t>One of the terms of the Magna Carta states that who will inherit without interference?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1097280" y="543096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Widow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5362920" y="5445000"/>
            <a:ext cx="22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Charlotte Churc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1097280" y="6172200"/>
            <a:ext cx="19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Towns peopl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5364000" y="617220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Mercha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0" name="Picture 8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231" name="Oval 9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125,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RA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3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8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3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400"/>
                            </p:stCondLst>
                            <p:childTnLst>
                              <p:par>
                                <p:cTn id="3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3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3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234" name="Oval 4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125,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1097280" y="6172200"/>
            <a:ext cx="20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Towns people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5364000" y="617220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Mercha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1097280" y="543240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Widow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826920" y="4365720"/>
            <a:ext cx="7467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ffffff"/>
                </a:solidFill>
                <a:latin typeface="Arial"/>
              </a:rPr>
              <a:t>One of the terms of the Magna Carta states that who will inherit without interference?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5362920" y="5445000"/>
            <a:ext cx="22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Charlotte Churc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3"/>
          <p:cNvSpPr/>
          <p:nvPr/>
        </p:nvSpPr>
        <p:spPr>
          <a:xfrm>
            <a:off x="838080" y="422100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istorians have described the Magna Carta as the most ‘………. Document in English history?’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1067760" y="543240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‘</a:t>
            </a: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Mingin’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5334480" y="543240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Usel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1066680" y="6172200"/>
            <a:ext cx="14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Importan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5334480" y="61722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Wels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8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247" name="Oval 9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250,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RA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3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4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3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7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3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3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3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250" name="Oval 4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250,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900000" y="422100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istorians have described the Magna Carta as the most ‘………. Document in English history?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1067760" y="543240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‘</a:t>
            </a: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Mingin’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5334480" y="543240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Usel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5334480" y="61722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Wels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1066680" y="61722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Importa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3"/>
          <p:cNvSpPr/>
          <p:nvPr/>
        </p:nvSpPr>
        <p:spPr>
          <a:xfrm>
            <a:off x="838080" y="419112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other term stated that who was to have fair taxation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1067040" y="543240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North m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5333760" y="5432400"/>
            <a:ext cx="20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Newport peop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1067760" y="617220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Nob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5334840" y="617220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Nur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2" name="Picture 8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263" name="Oval 9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500,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RA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3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1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3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7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3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40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3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266" name="Oval 4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500,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838080" y="419112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at is the genetic make up of an organism known a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1067040" y="543240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North m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5333760" y="5432400"/>
            <a:ext cx="20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Newport peop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1067760" y="617220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Nob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Rectangle 9"/>
          <p:cNvSpPr/>
          <p:nvPr/>
        </p:nvSpPr>
        <p:spPr>
          <a:xfrm>
            <a:off x="5334480" y="61722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3"/>
          <p:cNvSpPr/>
          <p:nvPr/>
        </p:nvSpPr>
        <p:spPr>
          <a:xfrm>
            <a:off x="838080" y="421164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en did King John die?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1067400" y="54324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123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5334840" y="54324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191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1067400" y="61722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203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5334840" y="61722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121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8" name="Picture 8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279" name="Oval 9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1,000,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RA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3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8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3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1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3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400"/>
                            </p:stCondLst>
                            <p:childTnLst>
                              <p:par>
                                <p:cTn id="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3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1011240" y="4160880"/>
            <a:ext cx="72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John’s brother was called Richard the …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5335560" y="543240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Lege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1068480" y="6172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Pa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5335560" y="614196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Link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" name="Picture 7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70" name="Oval 8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2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1043280" y="544500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Lionhea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RA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3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6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9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282" name="Oval 4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1,000,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1068480" y="54324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1232</a:t>
            </a: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5334840" y="54324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191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1067400" y="61722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203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5334840" y="61722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121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838080" y="421164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en did King John di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74" name="Oval 4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2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1043280" y="544500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Lionhea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5335560" y="543240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Lege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1068480" y="6172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Pa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5335560" y="614196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Link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1011240" y="4160880"/>
            <a:ext cx="72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John’s brother was called Richard the …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1690560" y="4160880"/>
            <a:ext cx="600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hich country did John go to wa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gains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067040" y="543240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Jupi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5334840" y="54324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1067760" y="61722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Japa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5334120" y="614196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German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Picture 8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87" name="Oval 9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3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RA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3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3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3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6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9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90" name="Oval 4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3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5334840" y="54324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1067760" y="61722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Japa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5334120" y="614196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German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685880" y="4160880"/>
            <a:ext cx="600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hich country did John go to wa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gains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1067040" y="543240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Jupi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1539720" y="4184640"/>
            <a:ext cx="6305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Name the film which shows King John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as a ‘baddy’?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068120" y="543096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  <a:ea typeface="Arial"/>
              </a:rPr>
              <a:t>Robin Hoo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5334480" y="54324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Batma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066320" y="617220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Gladia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5334120" y="614196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King Arthu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2" name="Picture 8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103" name="Oval 9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5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RA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3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6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3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9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2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3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106" name="Oval 4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5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579320" y="4184640"/>
            <a:ext cx="6214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Name the film which shows King Joh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as a ‘baddy’?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1068120" y="543096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Robin Hoo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5334480" y="54324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Batma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066320" y="617220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Gladia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5334120" y="614196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King Arthu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"/>
          <p:cNvSpPr/>
          <p:nvPr/>
        </p:nvSpPr>
        <p:spPr>
          <a:xfrm>
            <a:off x="838080" y="421164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How did John raise money which upset the barons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068480" y="5432400"/>
            <a:ext cx="132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Sold la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5293800" y="616572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Held bing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" name="Picture 6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117" name="Oval 7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1,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1066680" y="60958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Sold tit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5365800" y="540864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Raised taxes</a:t>
            </a: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RA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20:06:22Z</dcterms:created>
  <dc:creator>Owner</dc:creator>
  <dc:description/>
  <dc:language>en-US</dc:language>
  <cp:lastModifiedBy>IT User</cp:lastModifiedBy>
  <dcterms:modified xsi:type="dcterms:W3CDTF">2011-05-30T16:59:21Z</dcterms:modified>
  <cp:revision>54</cp:revision>
  <dc:subject/>
  <dc:title>Slide 1</dc:title>
</cp:coreProperties>
</file>